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12064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D06A-7F4A-4E7C-A804-E5005A6CE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5120640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18335880"/>
            <a:ext cx="5120640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0457-4C22-4DBA-8785-8113FF072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23860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7908-851A-4647-9A20-91CDCF7F7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313120" y="439056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26240" y="439056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1833588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313120" y="1833588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26240" y="1833588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B55C-893A-487E-8F05-1361CD3C4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390560"/>
            <a:ext cx="51206400" cy="266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74"/>
              </a:spcBef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5120640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51206400" cy="20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74"/>
              </a:spcBef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390560"/>
            <a:ext cx="51206400" cy="266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74"/>
              </a:spcBef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CE8B-D21A-4346-989D-F959F4355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23860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18335880"/>
            <a:ext cx="5120640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5120640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18335880"/>
            <a:ext cx="5120640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23860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313120" y="439056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626240" y="439056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1833588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7313120" y="1833588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4626240" y="18335880"/>
            <a:ext cx="1648836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5120640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D6EC-2349-4112-950D-C737CC0EA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AA6D-407A-4713-92B1-BFC66D7A0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A3FD-1FF6-4F98-A433-FDCEEFF89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51206400" cy="20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74"/>
              </a:spcBef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114A-55DA-469B-850A-0472D9B64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926D-8810-4FB8-BCB7-6077D0726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2669868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238600" y="1833588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8A65-4188-45E4-B9AD-E92D5CDB9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238600" y="4390560"/>
            <a:ext cx="2498868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18335880"/>
            <a:ext cx="51206400" cy="1273500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rmAutofit/>
          </a:bodyPr>
          <a:p>
            <a:pPr indent="0">
              <a:spcBef>
                <a:spcPts val="1474"/>
              </a:spcBef>
              <a:buNone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DA7D-EB80-437C-B936-6732474BE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1" lang="en-US" sz="59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4390560"/>
            <a:ext cx="51206400" cy="2669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167400" rIns="167400" tIns="83880" bIns="83880" anchor="t">
            <a:normAutofit/>
          </a:bodyPr>
          <a:p>
            <a:pPr marL="627120" indent="-62712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1" marL="1360440" indent="-523800">
              <a:spcBef>
                <a:spcPts val="1474"/>
              </a:spcBef>
              <a:buClr>
                <a:srgbClr val="000000"/>
              </a:buClr>
              <a:buFont typeface="Arial"/>
              <a:buChar char="–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2" marL="2092320" indent="-41760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3" marL="2930400" indent="-419040">
              <a:spcBef>
                <a:spcPts val="1474"/>
              </a:spcBef>
              <a:buClr>
                <a:srgbClr val="000000"/>
              </a:buClr>
              <a:buFont typeface="Arial"/>
              <a:buChar char="–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4" marL="3767040" indent="-41904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5" marL="3767040" indent="-41904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6" marL="3767040" indent="-41904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8645360" y="31363920"/>
            <a:ext cx="2560680" cy="1554120"/>
          </a:xfrm>
          <a:prstGeom prst="rect">
            <a:avLst/>
          </a:prstGeom>
          <a:noFill/>
          <a:ln w="0">
            <a:noFill/>
          </a:ln>
        </p:spPr>
        <p:txBody>
          <a:bodyPr lIns="167400" rIns="167400" tIns="83880" bIns="83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A27B-2A64-474C-A0CE-4AA24C21DC93}" type="slidenum"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noaa_seal"/>
          <p:cNvPicPr/>
          <p:nvPr/>
        </p:nvPicPr>
        <p:blipFill>
          <a:blip r:embed="rId2"/>
          <a:stretch/>
        </p:blipFill>
        <p:spPr>
          <a:xfrm>
            <a:off x="471600" y="31260960"/>
            <a:ext cx="170640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8534520" y="30861000"/>
            <a:ext cx="33708960" cy="7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7400" rIns="167400" tIns="83880" bIns="838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Satellite Applications and Research (STAR) Revie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9 – 11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hs-2009-31-a-web"/>
          <p:cNvPicPr/>
          <p:nvPr/>
        </p:nvPicPr>
        <p:blipFill>
          <a:blip r:embed="rId2"/>
          <a:srcRect l="0" t="3768" r="0" b="86153"/>
          <a:stretch/>
        </p:blipFill>
        <p:spPr>
          <a:xfrm>
            <a:off x="0" y="0"/>
            <a:ext cx="5120640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18945360" y="31029120"/>
            <a:ext cx="13293720" cy="10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7400" rIns="167400" tIns="83880" bIns="8388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enter for Satellite Applications and Research (STAR) Review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09 – 11 March 20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noaa_seal"/>
          <p:cNvPicPr/>
          <p:nvPr/>
        </p:nvPicPr>
        <p:blipFill>
          <a:blip r:embed="rId3"/>
          <a:stretch/>
        </p:blipFill>
        <p:spPr>
          <a:xfrm>
            <a:off x="46634400" y="380880"/>
            <a:ext cx="3733920" cy="363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"/>
          <p:cNvPicPr/>
          <p:nvPr/>
        </p:nvPicPr>
        <p:blipFill>
          <a:blip r:embed="rId4"/>
          <a:srcRect l="8172" t="6210" r="7931" b="8699"/>
          <a:stretch/>
        </p:blipFill>
        <p:spPr>
          <a:xfrm>
            <a:off x="42138720" y="304920"/>
            <a:ext cx="3733560" cy="38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NASA - terra_globe0047"/>
          <p:cNvPicPr/>
          <p:nvPr/>
        </p:nvPicPr>
        <p:blipFill>
          <a:blip r:embed="rId5"/>
          <a:srcRect l="14102" t="0" r="14102" b="0"/>
          <a:stretch/>
        </p:blipFill>
        <p:spPr>
          <a:xfrm>
            <a:off x="762120" y="-38160"/>
            <a:ext cx="4267080" cy="445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2064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67400" rIns="167400" tIns="83880" bIns="83880" anchor="ctr">
            <a:noAutofit/>
          </a:bodyPr>
          <a:p>
            <a:pPr indent="0" algn="ctr">
              <a:buNone/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1" lang="en-US" sz="59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59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0" y="4390560"/>
            <a:ext cx="51206400" cy="26698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167400" rIns="167400" tIns="83880" bIns="83880" anchor="t">
            <a:normAutofit/>
          </a:bodyPr>
          <a:p>
            <a:pPr marL="627120" indent="-62712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1" marL="1360440" indent="-523800">
              <a:spcBef>
                <a:spcPts val="1474"/>
              </a:spcBef>
              <a:buClr>
                <a:srgbClr val="000000"/>
              </a:buClr>
              <a:buFont typeface="Arial"/>
              <a:buChar char="–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2" marL="2092320" indent="-417600">
              <a:spcBef>
                <a:spcPts val="1474"/>
              </a:spcBef>
              <a:buClr>
                <a:srgbClr val="000000"/>
              </a:buClr>
              <a:buFont typeface="Arial"/>
              <a:buChar char="•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3" marL="2930400" indent="-419040">
              <a:spcBef>
                <a:spcPts val="1474"/>
              </a:spcBef>
              <a:buClr>
                <a:srgbClr val="000000"/>
              </a:buClr>
              <a:buFont typeface="Arial"/>
              <a:buChar char="–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4" marL="3767040" indent="-41904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5" marL="3767040" indent="-41904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lvl="6" marL="3767040" indent="-419040">
              <a:spcBef>
                <a:spcPts val="1474"/>
              </a:spcBef>
              <a:buClr>
                <a:srgbClr val="000000"/>
              </a:buClr>
              <a:buFont typeface="Arial"/>
              <a:buChar char="»"/>
              <a:tabLst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6" descr="C:\Documents and Settings\hillger\My Documents\STAR Ext Rvw poster template.V4 landscape.jpg"/>
          <p:cNvPicPr/>
          <p:nvPr/>
        </p:nvPicPr>
        <p:blipFill>
          <a:blip r:embed="rId1"/>
          <a:stretch/>
        </p:blipFill>
        <p:spPr>
          <a:xfrm>
            <a:off x="66600" y="49320"/>
            <a:ext cx="51073200" cy="3281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D:\Redoubt\Redoubt_3-color.jpg"/>
          <p:cNvPicPr/>
          <p:nvPr/>
        </p:nvPicPr>
        <p:blipFill>
          <a:blip r:embed="rId2"/>
          <a:stretch/>
        </p:blipFill>
        <p:spPr>
          <a:xfrm>
            <a:off x="35509320" y="4514760"/>
            <a:ext cx="15620760" cy="11715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2039480" y="417600"/>
            <a:ext cx="27051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1" lang="en-US" sz="8000" spc="-1" strike="noStrike">
                <a:solidFill>
                  <a:srgbClr val="ff9900"/>
                </a:solidFill>
                <a:latin typeface="Arial"/>
              </a:rPr>
              <a:t>Real-time Monitoring of Volcanic Ash from Mt. Redoubt (using Principal Component Imagery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8364320" y="3276720"/>
            <a:ext cx="1424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1674720"/>
                <a:tab algn="l" pos="3349800"/>
                <a:tab algn="l" pos="5024520"/>
                <a:tab algn="l" pos="6699240"/>
                <a:tab algn="l" pos="8373960"/>
                <a:tab algn="l" pos="1004904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Don Hillger, Dave Watson, and Kevin Mic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371600" y="4952880"/>
            <a:ext cx="1912608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quirement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How well can volcanic ash be monitored with real-time geostationary imag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cience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duced loss of life, injury, and damage to the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enefit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Real-time detection of ash plu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3909120" y="28422720"/>
            <a:ext cx="16382880" cy="3200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cience Challeng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Make real-time imagery available as soon as 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Next Steps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dback from affected us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ransition Path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Move into operations in Alaska, else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D:\Redoubt\Redoubt_3-color_2.jpg"/>
          <p:cNvPicPr/>
          <p:nvPr/>
        </p:nvPicPr>
        <p:blipFill>
          <a:blip r:embed="rId3"/>
          <a:stretch/>
        </p:blipFill>
        <p:spPr>
          <a:xfrm>
            <a:off x="35255160" y="15621120"/>
            <a:ext cx="15951240" cy="11963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D:\Okmok\Okmok-3-color.jpg"/>
          <p:cNvPicPr/>
          <p:nvPr/>
        </p:nvPicPr>
        <p:blipFill>
          <a:blip r:embed="rId4"/>
          <a:stretch/>
        </p:blipFill>
        <p:spPr>
          <a:xfrm>
            <a:off x="1397160" y="20726280"/>
            <a:ext cx="15138360" cy="1135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D:\Okmok\Okmok_4-panel.jpg"/>
          <p:cNvPicPr/>
          <p:nvPr/>
        </p:nvPicPr>
        <p:blipFill>
          <a:blip r:embed="rId5"/>
          <a:stretch/>
        </p:blipFill>
        <p:spPr>
          <a:xfrm>
            <a:off x="2057400" y="9601200"/>
            <a:ext cx="14020920" cy="10515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8"/>
          <p:cNvSpPr/>
          <p:nvPr/>
        </p:nvSpPr>
        <p:spPr>
          <a:xfrm>
            <a:off x="21945600" y="5867280"/>
            <a:ext cx="13030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time volcanic ash displays area created from Principal Component  Imagery from current GOES-west data.  The component images display different cloud and/or ash features.  Individual image components can be displayed as a 4-panel  product, or as a 3-color combination produ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duct uses GOES-11 imagery, with the day-night longwave split-window bands that will not be available again until the GOES-R ABI 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27127080" y="13639680"/>
            <a:ext cx="9601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-color display of component images of volcanic ash from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t. Redoub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Cook Inlet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6078320" y="13106520"/>
            <a:ext cx="655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-panel display of component images from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km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olcano in the Aleutian chain – 2008-07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D:\Redoubt\Redoubt_4-panel.jpg"/>
          <p:cNvPicPr/>
          <p:nvPr/>
        </p:nvPicPr>
        <p:blipFill>
          <a:blip r:embed="rId6"/>
          <a:stretch/>
        </p:blipFill>
        <p:spPr>
          <a:xfrm>
            <a:off x="21412080" y="16154280"/>
            <a:ext cx="14732280" cy="110491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3"/>
          <p:cNvSpPr/>
          <p:nvPr/>
        </p:nvSpPr>
        <p:spPr>
          <a:xfrm>
            <a:off x="20193120" y="28498680"/>
            <a:ext cx="1234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age loops/animations of each of  these products are available, showing the volcanoes and their associated ash plumes in a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14401800" y="23622120"/>
            <a:ext cx="6477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-color display of component images from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km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olcano in the Aleutian chain – 2008-07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6:54:29Z</dcterms:created>
  <dc:creator>Don Hillger</dc:creator>
  <dc:description/>
  <dc:language>en-US</dc:language>
  <cp:lastModifiedBy>hillger</cp:lastModifiedBy>
  <dcterms:modified xsi:type="dcterms:W3CDTF">2010-02-03T23:16:25Z</dcterms:modified>
  <cp:revision>62</cp:revision>
  <dc:subject/>
  <dc:title>Slide 1</dc:title>
</cp:coreProperties>
</file>